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4BED4-30AF-4D30-AC00-84354C814D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D580-96B9-4A84-9B6E-B816F75F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7C8C-431C-45C0-82EE-D358B6EA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DD28-16B1-4E04-85B9-C53E8FDF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F50A-5219-4584-BB31-CBD3EE56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C5F8-7245-4139-A338-DF68FBBB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66DA-4BDE-4AD7-BEE1-25CB1C94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7697-B12F-4E26-958A-B80C8876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240F-FC69-4206-B2D2-E2FD1E05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9A80-8965-4886-A640-028B3EFC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168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B1E1-B551-4663-9B2E-665C12FF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6064-A51F-4427-BD35-B0439F11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BA7D-90AA-4069-9157-3859A59A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E474-E78B-46C3-A2A2-FE3626B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5556-DF39-4F3F-B03D-C6411E7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D39-F42A-44F6-A233-799D0208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82CA-0C98-4080-AB57-47F3BC99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E975-D05C-4EDA-81AF-9DDBDAFF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F8A0-FE1E-4170-B3A4-617DD83F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1E40-68CB-4529-A570-EA67BB6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87FE-103F-4219-BB85-2CE2E4F9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168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5D99-712F-4C82-8004-EED21E9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4887-82F5-4FEB-ABF9-7C8F2169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7EB0-C6B9-475C-AA8B-DBD4C56A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6464-32F6-4355-B941-B08B8EA3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F1245-E5F4-4031-BD6F-8B2C5866D98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9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28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7880"/>
              <a:ext cx="136440" cy="136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16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5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644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128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4680" y="168912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79520" y="1066680"/>
                <a:ext cx="58608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39760" y="3581280"/>
                <a:ext cx="58428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79520" y="1689120"/>
                <a:ext cx="5860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39760" y="232236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2360"/>
                <a:ext cx="582480" cy="6336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4680" y="2322360"/>
                <a:ext cx="574560" cy="6336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6240"/>
                <a:ext cx="576360" cy="6447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39760" y="2946240"/>
                <a:ext cx="584280" cy="6447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2E3BC-03E5-4692-8244-430281D2C54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2000" cy="22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ributed Computing Semi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14360" y="2280960"/>
            <a:ext cx="8229600" cy="2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cture 3: Distributed File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880" y="5140080"/>
            <a:ext cx="822960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tophe Bisciglia, Aaron Kimball, &amp; Sierra Michels-Slett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gle, Inc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2920" y="5772240"/>
            <a:ext cx="63594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cept as otherwise noted, the content of this presentation is © Copyright University of Washington and licensed under the Creative Commons Attribution 2.5 Lice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: Trade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S Volume managed by singl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er load on centra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ies coherenc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POSIX system means it “drops in” very easily, but isn’t “great” for any specific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080" y="2333520"/>
            <a:ext cx="815364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The Google File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njay Ghemawat, Howard Gobioff,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Shun-Tak Le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SP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400720"/>
            <a:ext cx="80769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se slides by Alex Moshchuk, University of Washington – used with permi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oogle needed a good distributed file 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ndant storage of massive amounts of data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ap and unreliable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hy not use an existing file system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gle’s problems are different from anyone else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workload and design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S is designed for Google apps and work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gle apps are designed for G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gh component failure r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expensive commodity components fail all th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st” number of HUGE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ust a few mi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ch is 100MB or larger; multi-GB files typ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les are write-once, mostly appended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haps concur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rge streaming re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gh sustained throughput favored over low la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FS 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les stored as chu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xed size (64M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iability through re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chunk replicated across 3+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hunk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 master to coordinate access, keep meta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centralize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data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ttle benefit due to large data sets, streaming 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miliar interface, but customize the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ify the problem; focus on Google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napsho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rd appen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F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2581200"/>
            <a:ext cx="8582040" cy="3286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gl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iple chunk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6095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n anyone see a potential weakness in this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gl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rom distributed systems we know this is 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bility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solution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dow m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ize mast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ver move data through it, use only for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4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cache metadata at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 chun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ter delegates authority to primary replicas in data mutations (chunk le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imple, and good enough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adata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lobal metadata is stored on the mast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 and chunk name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from files to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s of each chunk’s rep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ll in memory (64 bytes / chunk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ly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adata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aster has an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operation log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 persistent logging of critical metadata upda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istent on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points for faste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447920"/>
            <a:ext cx="845820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utation = write or appe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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must be done for all rep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oal: minimize master involv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ease mechanism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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ster picks one replica 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imary; gives it a “lease”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for 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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imary defines a serial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order of 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Font typeface="Wingdings" charset="2"/>
              <a:buChar char="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all replicas follow this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ata flow decoupled from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403884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ystem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S (Network File Syste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S (Google File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omic record app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lient specifies da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appends it to the file atomically at least o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S picks the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 for concurrent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d heavily by Google app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, for files that serve as multiple-producer/single-consumer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laxed consistency model (1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istent” = all replicas have the same valu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fined” = replica reflects the mutation, consisten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4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ome properti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urrent writes leave region consistent, but possibly un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ed writes leave the region in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4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ome work has moved into the application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, self-validating, self-identifying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laxed consistency model (2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imple, effici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gle apps can live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bout other ap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4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4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amespace updates atomic and serializ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4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ter’s responsibilitie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eta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amespace management/lock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odic communication with chunkserv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instructions, collect state, track cluster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hunk creation, re-replication, rebalanc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e space utilization and acces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ead replicas across racks to reduce correlated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replicate data if redundancy falls below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balance data to smooth out storage and reques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ter’s responsibilitie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r, more reliable than traditional file 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ter logs the deletion, renames the file to a hidd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zily garbage collects hidd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tale replica dele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 “stale” replicas using chunk version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ter and chunkservers restartable in a few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unk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ault: 3 replica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dow m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sum every 64KB block in each ch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3871800"/>
            <a:ext cx="5867280" cy="2681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586728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ployment in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any GFS clus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undreds/thousands of storage nodes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anaging petabytes of da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is under BigTable, etc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demonstrates how to support large-scale processing workloads on commodity hardwa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to tolerate frequent component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e for huge files that are mostly appended and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el free to relax and extend FS interface a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 for simple solutions (e.g., single ma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GFS has met Google’s storage needs… it must be good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Tim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tart learning about algorithms for distributed comput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lustering Algorith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esystem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 that permanently stor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ally layered on top of a lower-level physical storage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ided into logical units called “fi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ressable by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lename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“foo.tx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supports hierarchical nesting (direc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a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s file &amp; directory names into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dress to identify a file (“/home/aaron/foo.tx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ributed File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3104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ccess to files on remot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support 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varying guarantees about locking, who “wins” with concurrent writes, 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gracefully handle dropped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offer support for replication and local c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implementations sit in different places on complexity/featur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3104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developed in 1980s by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ed with standard UNIX FS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drive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ount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local directory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31040" cy="30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ly completely sta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ed over UDP; did not use TCP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locking, etc., implemented in higher-level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implementations use TCP/IP &amp; stateful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rver-sid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FS defines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not actually manage local disk layout o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 instantiates NFS volume on top of local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hard drives managed by concrete file systems (EXT, ReiserFS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networked FS's mounted in by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4800600"/>
          <a:ext cx="670716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800600"/>
                    <a:ext cx="670716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310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S v4 supports stateful locking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ents inform server of intent to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 can notify clients of outstanding lock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king is lease-based: clients must continually renew locks before a tim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contact with server abandons 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14320"/>
            <a:ext cx="8231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FS Cli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S Clients are allowed to cache copies of remote files for subsequent a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lose-to-op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client A closes a file, its contents are synchronized with the master, and timestamp i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client B opens the file, it checks that local timestamp agrees with server timestamp. If not, it discards local c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3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reader/writers must use flags to disable c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hebert</dc:creator>
  <dc:description/>
  <dc:language>en-US</dc:language>
  <cp:lastModifiedBy>Google</cp:lastModifiedBy>
  <cp:revision>0</cp:revision>
  <dc:subject/>
  <dc:title>Lecture 5</dc:title>
</cp:coreProperties>
</file>